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B21-D6F9-470F-87A3-DB8178E3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B70-0498-48A0-A876-AE391329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279-492D-4040-893A-7C010AEA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8FB-8A64-479E-B55D-C0DD2141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20D8-AE19-4B38-AC2E-974C87B5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66A0-5199-4A23-BD0A-4938E518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8D23-3349-46D9-9E40-CDE256D1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87DC-960B-4180-9826-AE5DE53B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A232-F1C2-4B06-BBDA-68BDA1F2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FE33-BF28-44C1-A29B-16D36A5E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D500-292B-425B-AFF2-BE907793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20D-E460-4FA6-846B-7804914D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B396-615C-4EA8-85D8-4B8BF1F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2FFF-2084-4478-AE77-67AE0D3C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4CBB-FFBB-401B-9ABE-37E65395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AD79-431A-4248-A7D5-26DB038A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0585-DE84-441D-B1DF-9E10DC67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0F06-B1FC-473D-8D74-5AE6FD31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E8F1-E33E-486F-9A6A-AD48DDD3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F473-0FDD-4F17-91E6-DC802C9B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CE76-BB61-4D58-A875-29FC7430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A27B4-0156-498F-AF73-04EAEDDD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401-76AD-495E-A0A8-BDFEC03C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AEF1-54A6-4829-BF52-E77F720F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AF6F4-D24E-4250-8A4C-6B4E9C3B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BCEA-2484-4801-9CEE-E1E1CD9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EE3C-D643-4B43-A291-B10B5539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4F41-5BB2-41B9-AB72-D5042C43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8D47-8120-4998-944D-EFC2455B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59BC-CB26-4ADA-8975-EED24F0D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EBC5-70DD-422B-BD06-FEF41043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C5D9-2590-43BF-B602-E5B9B630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86FEC-0F0A-49D4-8F99-6467900D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E2F-3780-46CD-B53D-7904FB3D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C8F70-AEC1-4E1E-8BB6-6C4092A2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92FD1-95D9-4659-966C-FB09C6FE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DC967-F969-4DAA-9E46-CD360066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37646-56AB-412C-99D1-6FF959F6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A6B3-6181-47D4-B5E3-0136EEBA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A5AB-8971-41AB-96C5-B8EF5C6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EB030-A960-46D7-B6C6-443ABFB8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15957-C358-4CF3-A51D-3259DE3B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CC13F-D055-4574-8AAB-5E78F9DB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3C5-25F6-4BB9-9BB2-4E5B3F41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988-AF6C-4362-9CE7-0FF75DFD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E17-9F79-420E-9B9A-A67442DA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195-5BAC-4D38-ADDA-03484153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DE2-E42D-4FEC-8750-B82C15C3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BDBA-8175-43D8-B9FB-CEB3117FC33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3000-CEB5-4ADB-A49E-3206461334B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2AF4-8C29-4C1A-B0C8-89FCF0AF267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31ED-55CE-4A84-831C-32E070CF1C5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Trebuchet MS"/>
                <a:cs typeface="Tahoma"/>
              </a:rPr>
              <a:t>الايمان والعلم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362320" y="5943240"/>
            <a:ext cx="3047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rebuchet MS"/>
                <a:ea typeface="Tahoma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800" spc="-1" strike="noStrike">
                <a:solidFill>
                  <a:srgbClr val="000099"/>
                </a:solidFill>
                <a:latin typeface="Trebuchet MS"/>
                <a:cs typeface="Tahoma"/>
              </a:rPr>
              <a:t>الاحساء-ملتقى القزاء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800" spc="-1" strike="noStrike">
                <a:solidFill>
                  <a:srgbClr val="000099"/>
                </a:solidFill>
                <a:latin typeface="Trebuchet MS"/>
                <a:ea typeface="Tahoma"/>
              </a:rPr>
              <a:t>1\</a:t>
            </a:r>
            <a:r>
              <a:rPr b="1" lang="ar-SA" sz="800" spc="-1" strike="noStrike">
                <a:solidFill>
                  <a:srgbClr val="000099"/>
                </a:solidFill>
                <a:latin typeface="Trebuchet MS"/>
                <a:cs typeface="Tahoma"/>
              </a:rPr>
              <a:t>مارس\</a:t>
            </a:r>
            <a:r>
              <a:rPr b="1" lang="ar-SA" sz="800" spc="-1" strike="noStrike">
                <a:solidFill>
                  <a:srgbClr val="000099"/>
                </a:solidFill>
                <a:latin typeface="Trebuchet MS"/>
                <a:ea typeface="Tahoma"/>
              </a:rPr>
              <a:t>2019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28600" y="6248520"/>
            <a:ext cx="1066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900" spc="-1" strike="noStrike">
                <a:solidFill>
                  <a:srgbClr val="7f7f7f"/>
                </a:solidFill>
                <a:latin typeface="Trebuchet MS"/>
                <a:cs typeface="Tahoma"/>
              </a:rPr>
              <a:t>ثامر العيثا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كيفية نشوء وتطور الايمان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12189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ساس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ايمان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عقلي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و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وجداني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و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نقلي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بعد ذلك يتم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بناء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على الايمان من خلال المعطيات الجديدة.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ه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ُوَ الَّذِي أَنزَلَ السَّكِينَةَ فِي قُلُوبِ الْمُؤْمِنِينَ لِيَزْدَادُوا إِيمَانًا مَّعَ إِيمَانِهِمْ ۗ وَلِلَّهِ جُنُودُ السَّمَاوَاتِ وَالْأَرْضِ ۚ وَكَانَ اللَّهُ عَلِيمًا حَكِيمًا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[الجزء: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٢٦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| الفتح (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٤٨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)| الآية: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٤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]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كيفية نشوء وتطور الايمان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جوارح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موطن الاعمال المستند الى علم.</a:t>
            </a: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من الأمور التي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تزيد او تنقص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ايمان هو 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١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علم الجديد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سواء كان علما إيجابيا او سلبي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٢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والعمل به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سواء كان عملا إيجابيا او سلبي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بعض حدود الايمان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2952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حكم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على اي قضية إيمانية هو واحد من ثلاثة:-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ن العلم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يوافق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ايمان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ن العلم</a:t>
            </a:r>
            <a:r>
              <a:rPr b="1" lang="ar-SA" sz="2800" spc="-1" strike="noStrike">
                <a:solidFill>
                  <a:srgbClr val="00b0f0"/>
                </a:solidFill>
                <a:latin typeface="Trebuchet MS"/>
                <a:ea typeface="Tahoma"/>
              </a:rPr>
              <a:t> اليقيني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يناقض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فكرة الإيمانية ، وهنا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نؤل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فكرة الإيمانية 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ن العلم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لم يحسم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تناقض مع الايمان، حتى مع عدم الارتياح النفسي، هنا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نتوقف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عن الحكم الى اجل غير مسمى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بعض حدود الايمان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371600"/>
            <a:ext cx="69343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إمكان العقلي 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والخرافة:-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لايمكن ان نطلق العنان للايمان حتى مع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ea typeface="Tahoma"/>
              </a:rPr>
              <a:t> التناقض 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العقلي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جمع </a:t>
            </a:r>
            <a:r>
              <a:rPr b="1" lang="ar-SA" sz="2400" spc="-1" strike="noStrike">
                <a:solidFill>
                  <a:srgbClr val="00b0f0"/>
                </a:solidFill>
                <a:latin typeface="Trebuchet MS"/>
                <a:cs typeface="Tahoma"/>
              </a:rPr>
              <a:t>الايمان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مع الإمكان </a:t>
            </a:r>
            <a:r>
              <a:rPr b="1" lang="ar-SA" sz="2400" spc="-1" strike="noStrike">
                <a:solidFill>
                  <a:srgbClr val="00b0f0"/>
                </a:solidFill>
                <a:latin typeface="Trebuchet MS"/>
                <a:cs typeface="Tahoma"/>
              </a:rPr>
              <a:t>العلمي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، قد يكون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خلاف المتعارف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, مثل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1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خارق للعادة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: يقره القران ويعطي حوادث كثيرة منه، لابراهيم وعيسى وموسى و....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خارق للعادة 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هو ما لا يألفه الانسان عادة، ولكنه ليس مستحيلاً عقلا. اي ان الخارق للعادة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لا يتسبب 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بتناقضات عقلية، وانما يأتي باعمال غير مألوفة، كعدم الحرق بالنا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 algn="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بعض حدود الايمان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إعجاز العلمي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مادي الذي لايكون ممن يحمل تناقضا فلسفيا،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ممك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عقل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حدوثه يكون معتمدا على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توفر الظروف المعينة لحدوثه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. كعدم حرق النار لابراهيم( الان تم تصنيع ملابس واقية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بعض حدود الايمان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إعجاز العلمي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مادي الذي لايكون ممن يحمل تناقضا فلسفيا،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ممك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عقلا.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إعجاز الذي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يحتوي على روح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فهذا أمره يكون بعالم اخر لانعرفه ولانستطيع الوصول اليه علمي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الحمد لله رب العالمي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cs typeface="Tahoma"/>
              </a:rPr>
              <a:t>والسلام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000099"/>
                </a:solidFill>
                <a:latin typeface="Trebuchet MS"/>
                <a:ea typeface="Tahoma"/>
              </a:rPr>
              <a:t>             </a:t>
            </a:r>
            <a:r>
              <a:rPr b="1" lang="ar-SA" sz="2900" spc="-1" strike="noStrike">
                <a:solidFill>
                  <a:srgbClr val="000099"/>
                </a:solidFill>
                <a:latin typeface="Trebuchet MS"/>
                <a:cs typeface="Tahoma"/>
              </a:rPr>
              <a:t>محاور المحاضرة</a:t>
            </a:r>
            <a:r>
              <a:rPr b="1" lang="ar-SA" sz="2900" spc="-1" strike="noStrike">
                <a:solidFill>
                  <a:srgbClr val="000099"/>
                </a:solidFill>
                <a:latin typeface="Trebuchet MS"/>
                <a:ea typeface="Tahoma"/>
              </a:rPr>
              <a:t>: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1143000"/>
            <a:ext cx="69343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ea typeface="Tahoma"/>
              </a:rPr>
              <a:t> 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الايمان ومفهومه الديني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كيفية نشوء وتطور الايمان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rebuchet MS"/>
                <a:ea typeface="Tahoma"/>
              </a:rPr>
              <a:t> بعض حدود الايمان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علم يكشف اسرار الكون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العلوم الاساسية هي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فيزياء، الاحياء 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وربما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رياضيات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احياء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( سابقا الطب والدواء والخرافة، التقنيات الحيوية، .....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الفيزياء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 ( سابقا الكيمياء، الجيولوجيا، الظواهر الطبيعية، التقنيات الالية، ....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له طبقات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cs typeface="Tahoma"/>
              </a:rPr>
              <a:t>، والفيزياء والاحياء هما الطبقة </a:t>
            </a:r>
            <a:r>
              <a:rPr b="1" lang="ar-SA" sz="2400" spc="-1" strike="noStrike">
                <a:solidFill>
                  <a:srgbClr val="ff0000"/>
                </a:solidFill>
                <a:latin typeface="Trebuchet MS"/>
                <a:cs typeface="Tahoma"/>
              </a:rPr>
              <a:t>واللبنة الاساسية</a:t>
            </a:r>
            <a:r>
              <a:rPr b="1" lang="ar-SA" sz="2400" spc="-1" strike="noStrike">
                <a:solidFill>
                  <a:srgbClr val="000099"/>
                </a:solidFill>
                <a:latin typeface="Trebuchet MS"/>
                <a:ea typeface="Tahoma"/>
              </a:rPr>
              <a:t>. وكل شيء مبني عليها</a:t>
            </a:r>
            <a:r>
              <a:rPr b="0" lang="ar-SA" sz="1800" spc="-1" strike="noStrike">
                <a:solidFill>
                  <a:srgbClr val="404040"/>
                </a:solidFill>
                <a:latin typeface="Trebuchet MS"/>
                <a:ea typeface="Tahoma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علم الاحياء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ساس الاحياء هو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خلية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كروموزومات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و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DNA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.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و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RNA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rebuchet MS"/>
              </a:rPr>
              <a:t>،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وهي معروفة بدق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كثير عن لبنات الاحياء معروف الا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روح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(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لم يكتمل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فيزياء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جزيئات الاولية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و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قوى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تي تضبط الكون معروف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نعرف في الوقت الحاضر بشكل كلي الكثير من مفاهيم تركيب المادة من العناصر الى الاجرام الى النجوم الى كل شيء تقريب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لم يكتمل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رياضيات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منطق داخل الذهن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ولا وجود حقيقي له بالخارج. هو آلة تحكم العمليات العقلية للوجود الخارجي.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حتى الرياضيات معروفة بشكل كبير والتقدم فيها بطيء لتشبعها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(لم تكتمل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 في مفهومه الحديث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علوم الاخرى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علوم انسانية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علم الاجتماع, علم التاريخ، الفلسفة, المنطق...الخ.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علوم اعتبارية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النحو, الادارة,الكمبيوتر, الصناعة...الخ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ايمان ومفهومه الدين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37160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ايما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من اختصاص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اديا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ويكون بما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وراء الغيب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ايمان : هو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العلم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والاعتقاد الجازم والالتزام بمقتضاه ( و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العمل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كما يروى عن الامام الصادق ع) 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علم بلا عمل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لا يعد إيما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، وإنما عل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وَجَحَدُوا بِهَا وَاسْتَيْقَنَتْهَا أَنفُسُهُمْ ظُلْمًا وَعُلُوًّا ۚ فَانظُرْ كَيْفَ كَانَ عَاقِبَةُ الْمُفْسِدِينَ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[الجزء: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١٩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| النمل (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٢٧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)| الآية: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١٤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]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rebuchet MS"/>
                <a:cs typeface="Tahoma"/>
              </a:rPr>
              <a:t>الايمان ومفهومه الدين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2120" y="114300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١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 الايمان 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علم وعمل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٢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نفاق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عمل بلا علم واعتقا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٣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العلم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: يشترك 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cs typeface="Tahoma"/>
              </a:rPr>
              <a:t>به المؤمن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و</a:t>
            </a:r>
            <a:r>
              <a:rPr b="1" lang="ar-SA" sz="2800" spc="-1" strike="noStrike">
                <a:solidFill>
                  <a:srgbClr val="ff0000"/>
                </a:solidFill>
                <a:latin typeface="Trebuchet MS"/>
                <a:ea typeface="Tahoma"/>
              </a:rPr>
              <a:t> الكافر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والإيمان </a:t>
            </a:r>
            <a:r>
              <a:rPr b="1" lang="ar-SA" sz="2800" spc="-1" strike="noStrike">
                <a:solidFill>
                  <a:srgbClr val="c00000"/>
                </a:solidFill>
                <a:latin typeface="Trebuchet MS"/>
                <a:cs typeface="Tahoma"/>
              </a:rPr>
              <a:t>يضعف ويقوى</a:t>
            </a: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.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ea typeface="Tahoma"/>
              </a:rPr>
              <a:t> الايمان بالله: وحدانيته وعبادته والخضوع له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ebuchet MS"/>
                <a:cs typeface="Tahoma"/>
              </a:rPr>
              <a:t>الايمان بالرسول والإسلام والامامة والقران، كل اعتقاد له عمل بمقتضاه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50200" indent="-25020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3:53:06Z</dcterms:created>
  <dc:creator>Flera Rizatdinova</dc:creator>
  <dc:description/>
  <dc:language>en-US</dc:language>
  <cp:lastModifiedBy>Windows User</cp:lastModifiedBy>
  <dcterms:modified xsi:type="dcterms:W3CDTF">2019-02-28T21:21:12Z</dcterms:modified>
  <cp:revision>188</cp:revision>
  <dc:subject/>
  <dc:title>Basics of Particle Physics</dc:title>
</cp:coreProperties>
</file>